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B0022-5B13-4EEE-832F-686BB9DC4D9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0F044-0079-47A2-B56E-FB41E4FBBA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y did Pat include an image here? What sort of image has Pat chosen here? How does the image illustrate the point Pat is mak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y did Pat use this type of image? What effect would it have if Pat replaced it with a different kind of ima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05BF8-87D1-44C9-848D-E412047B43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y did Pat include an image here? What sort of image has Pat chosen here? How does the image illustrate the point Pat is mak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y did Pat use this type of image? What effect would it have if Pat replaced it with a different kind of ima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F946A-6C83-4D42-912B-F56565E2EF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y did Pat include an image here? What sort of image has Pat chosen here? How does the image illustrate the point Pat is mak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y did Pat use this type of image? What effect would it have if Pat replaced it with a different kind of ima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D6EF2-85ED-43D3-8219-2E08E5A609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y did Pat include an image here? What sort of image has Pat chosen here? How does the image illustrate the point Pat is mak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y did Pat use this type of image? What effect would it have if Pat replaced it with a different kind of ima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13BB-79A3-49C0-A673-AA966DC56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D573-9ADD-40DF-9278-0BB299062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449A-7DB9-498F-919A-2C5E250BB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6FFB-0F26-4A09-8DCF-A453B9943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6061-CE3D-4E54-8FDE-F7983CC0C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84DA-07FD-4A89-B5D8-0CE51A60B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17D4-93BC-4EBA-80F0-832D17A24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60A1-5E38-49BC-A710-75E95F30C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CF2A-2334-4833-B4C7-B8ACADA4C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62B8-8879-4FD3-91DE-F955893E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529E-44D5-40BA-8B81-363D2BBB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8CCB-8F1F-4378-B3B3-7951A81D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A1D5F-A018-471D-8C8F-9865543217B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Blackadder ITC"/>
              </a:rPr>
              <a:t>About me</a:t>
            </a: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By P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an00790_"/>
          <p:cNvPicPr/>
          <p:nvPr/>
        </p:nvPicPr>
        <p:blipFill>
          <a:blip r:embed="rId1"/>
          <a:stretch/>
        </p:blipFill>
        <p:spPr>
          <a:xfrm>
            <a:off x="5562720" y="3581280"/>
            <a:ext cx="256356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name is Pat Smi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I live at 45 West street in Newtown by the post office in a house with a blue door and three bedroom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My mum works for the post office and goes to work very early every day and I have to get breakfast for Ja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My best friend likes football and chips and his dad’s car and going to his nan’s house on sundays except when Jamie is there because she’s always getting everyone into troub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pe01832_"/>
          <p:cNvPicPr/>
          <p:nvPr/>
        </p:nvPicPr>
        <p:blipFill>
          <a:blip r:embed="rId1"/>
          <a:stretch/>
        </p:blipFill>
        <p:spPr>
          <a:xfrm>
            <a:off x="5562720" y="3886200"/>
            <a:ext cx="2744640" cy="2508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en00354_"/>
          <p:cNvPicPr/>
          <p:nvPr/>
        </p:nvPicPr>
        <p:blipFill>
          <a:blip r:embed="rId2"/>
          <a:stretch/>
        </p:blipFill>
        <p:spPr>
          <a:xfrm>
            <a:off x="762120" y="4267080"/>
            <a:ext cx="259056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fami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y dad lives in Sp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y sister is younger than me and is a pain in the ne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e have got three cats called Tommy fred and tib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e got our dog from the rescue centre because he had been abado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mp00640_"/>
          <p:cNvPicPr/>
          <p:nvPr/>
        </p:nvPicPr>
        <p:blipFill>
          <a:blip r:embed="rId1"/>
          <a:stretch/>
        </p:blipFill>
        <p:spPr>
          <a:xfrm>
            <a:off x="4800600" y="2895480"/>
            <a:ext cx="348300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obb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otba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pe01659_"/>
          <p:cNvPicPr/>
          <p:nvPr/>
        </p:nvPicPr>
        <p:blipFill>
          <a:blip r:embed="rId1"/>
          <a:stretch/>
        </p:blipFill>
        <p:spPr>
          <a:xfrm>
            <a:off x="2971800" y="1523880"/>
            <a:ext cx="530388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chool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Jokerman"/>
              </a:rPr>
              <a:t>I liked my last sch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Miss jones was great but mr best was horrid and he got cross when I talk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nard MT Condensed"/>
              </a:rPr>
              <a:t>I liked maths but not history or geograp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바탕"/>
              </a:rPr>
              <a:t>My school was near here, just round the corn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bd00146_"/>
          <p:cNvPicPr/>
          <p:nvPr/>
        </p:nvPicPr>
        <p:blipFill>
          <a:blip r:embed="rId1"/>
          <a:stretch/>
        </p:blipFill>
        <p:spPr>
          <a:xfrm>
            <a:off x="6172200" y="0"/>
            <a:ext cx="2743200" cy="2720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bs00554_"/>
          <p:cNvPicPr/>
          <p:nvPr/>
        </p:nvPicPr>
        <p:blipFill>
          <a:blip r:embed="rId2"/>
          <a:stretch/>
        </p:blipFill>
        <p:spPr>
          <a:xfrm>
            <a:off x="0" y="0"/>
            <a:ext cx="2514600" cy="2193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bs00559_"/>
          <p:cNvPicPr/>
          <p:nvPr/>
        </p:nvPicPr>
        <p:blipFill>
          <a:blip r:embed="rId3"/>
          <a:stretch/>
        </p:blipFill>
        <p:spPr>
          <a:xfrm>
            <a:off x="6019920" y="5505480"/>
            <a:ext cx="238572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30T10:06:14Z</dcterms:created>
  <dc:creator>peter</dc:creator>
  <dc:description/>
  <dc:language>en-US</dc:language>
  <cp:lastModifiedBy>BRYAN, C (SHS Teacher)</cp:lastModifiedBy>
  <dcterms:modified xsi:type="dcterms:W3CDTF">2020-09-30T15:32:43Z</dcterms:modified>
  <cp:revision>2</cp:revision>
  <dc:subject/>
  <dc:title>Pat’s Presentation</dc:title>
</cp:coreProperties>
</file>